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A979-E5CC-4574-823F-E44F607EA6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slide" Target="../slides/slide4.xml"/><Relationship Id="rId18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huaxue/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lishi/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4ED-0323-47EA-B0FF-3A15762CAA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53BA-88F8-4267-8F1A-9FEAB2EB3C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A626-A288-4088-86E4-6DD4DB1D01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C98-27C5-4377-9729-62AD9700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071-A0B0-446C-A701-12354AB2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B3D-2518-40BF-ADD5-D9AFCF58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AB8-6F6A-4516-8C28-D43EAD95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FF3E-2991-4BF8-8A10-BB716562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37F2-38BE-4C5C-9DB9-8FECA252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4FAF-5424-422E-8AEF-531B661D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743E-BAC8-4313-A0D4-173121A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FA0B-C8EB-45B0-AC89-96C2817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5180-42F7-4C3F-AF76-D1F4BA9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2904-EDEB-43BC-8C5A-4EC9AF62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802-3B4A-4874-B84D-45C39DD9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9FAA-0CF5-4F0F-8F74-196DCFB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5601-0C6B-420C-A44A-580533E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9EF-D20A-4F5F-834F-E10D984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87D4-D012-4C1A-A642-7F81674C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7B60-3275-46A0-8199-131B6B64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8AE7-E483-4F9C-B510-4848BD69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FF69-2C07-4D12-BFFA-A36CD078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A3BC-28C6-4D8B-BEC0-8840466A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0FBE-A08A-4D42-B7D2-76E5B3E0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EED0-21C9-483A-A66F-E89EE95C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D99-24F6-4A38-8908-FEC00491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C076-375E-4B1E-8B32-41C8536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3395-0D60-4467-B5D3-81B19CD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24BF-243C-4295-B4EC-C9CF7B1B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6630-C025-449C-8A38-9DA093C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576F-C03D-4805-8008-AB5A3769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0DF4-5B75-4675-A6D9-85B07609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FC62-86A2-4AB1-893A-E71F0622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629C-4C43-4637-9966-D3FD2754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FE7F-8C25-4776-ACB4-A01442CA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BE25-9C20-4200-BE5E-A8AC3F0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5B7-A23E-4C62-9086-F297A1A6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E0B0-DC66-4DE6-8BDF-66F9B3A1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B318-E77B-492C-BC22-B01AE14D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8A11C-3F90-43EA-9140-AAFE3E07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81CA-8BC6-494F-B4F7-4EC679A5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26D3-11E1-4CFB-A67A-C9CD101F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3446-BD5F-430C-B8C3-A4E606EF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83D5D-74CE-4BEF-B14D-50FBC199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77D1-4F51-4EC5-9AF0-FDED734E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B49C-E1A7-4178-AAE2-5D697817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FD09-FEFE-4FBC-9B0D-97391014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BC4-FE55-4C86-A927-8B5E9B6D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AA69-8AFE-44D1-B9F9-0D96DF0F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AE41-0973-4CB4-9CB2-42D9511B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A67F6-8C6D-4CD1-BD32-ECCD82EF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2A75-404F-4F1F-AED8-6C6B1137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5451A-976B-4040-AFF7-58E2EB57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8DA70-B586-4463-8B45-A59B807F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EC1B-F4E2-4C3B-866F-D615886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038F-BD31-4875-B86D-FD7B180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0B206-A3FB-42ED-A486-7114803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BD56C-4AC3-4DC0-B19D-FC47C473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1A2-8343-4D99-A803-16907BDF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9182-4C90-4E24-830E-8B6F2FF8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8982-BFE6-43E7-9055-7D5081A3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1DB2-8981-4673-99E2-C7C1893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8CF0-25B0-4FEE-8EE8-9B75490E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D1D2F-35F6-48AF-9487-49AE5E18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6216C-FC68-4626-8EB0-50BC663D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5FEA-736B-40C8-9AF1-F3E4E9B6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0F17D-CB58-41C4-992D-8083B3ED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5837-112F-407F-8F35-97748F0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7249-AB64-406F-8947-28BD0A82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E5D-5D74-4FE1-BACE-E7C00E29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C17D1-4F34-428B-BEF6-724CC7E9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7F66-2935-4A62-9096-773B5BF9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386E-DD0C-4EC9-B758-C709D5F5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CC9-E21C-4146-8B73-111A1624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8BC-522F-430E-801C-97E9F05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52F1-0F41-4E35-8433-680BCDBAB7BE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3F25-ABF2-42F4-BF07-05CD94E627B6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C01-A055-4172-9A31-529C142DFD8B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15FE-41D0-4DC4-9577-602E417F683D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183-2044-4B43-93EC-C2485CA37FD4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4466-6A0B-4C47-ABA7-378C7FDD6D9B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3" descr=""/>
          <p:cNvPicPr/>
          <p:nvPr/>
        </p:nvPicPr>
        <p:blipFill>
          <a:blip r:embed="rId1"/>
          <a:stretch/>
        </p:blipFill>
        <p:spPr>
          <a:xfrm>
            <a:off x="330120" y="822240"/>
            <a:ext cx="11531520" cy="527364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1"/>
          <p:cNvSpPr/>
          <p:nvPr/>
        </p:nvSpPr>
        <p:spPr>
          <a:xfrm>
            <a:off x="600120" y="974880"/>
            <a:ext cx="5303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《泉水叮咚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叮咚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叮咚泉水叮咚泉水叮咚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跳下了山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走过了草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来到我身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呀泉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你到哪里你到哪里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唱着歌儿弹着琴弦流向远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请你带上我的一颗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绕过高山一起到海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呀泉水   你可记得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在你身旁是我送他参军去海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叮咚泉水叮咚泉水叮咚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"/>
          <p:cNvSpPr/>
          <p:nvPr/>
        </p:nvSpPr>
        <p:spPr>
          <a:xfrm>
            <a:off x="6184800" y="822240"/>
            <a:ext cx="5548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跳下了山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走过了草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来到我身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呀泉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你到哪里你到哪里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唱着歌儿弹着琴弦 流向远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请你告诉我的心上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不要想我也不要想家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只要听到这泉水叮咚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这就是我在他身边轻声歌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叮咚泉水叮咚泉水叮咚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叮咚泉水叮咚流向远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叮咚泉水叮咚泉水叮咚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泉水叮咚泉水叮咚流向远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流向远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9d9d9"/>
                </a:solidFill>
                <a:latin typeface="Arial"/>
              </a:rPr>
              <a:t>流向远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5"/>
          <p:cNvSpPr/>
          <p:nvPr/>
        </p:nvSpPr>
        <p:spPr>
          <a:xfrm>
            <a:off x="1642680" y="8064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了却自己的心愿：我也要流过四方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图片 1" descr=""/>
          <p:cNvPicPr/>
          <p:nvPr/>
        </p:nvPicPr>
        <p:blipFill>
          <a:blip r:embed="rId1"/>
          <a:stretch/>
        </p:blipFill>
        <p:spPr>
          <a:xfrm>
            <a:off x="658800" y="1415880"/>
            <a:ext cx="4367160" cy="22860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3" descr=""/>
          <p:cNvPicPr/>
          <p:nvPr/>
        </p:nvPicPr>
        <p:blipFill>
          <a:blip r:embed="rId2"/>
          <a:stretch/>
        </p:blipFill>
        <p:spPr>
          <a:xfrm>
            <a:off x="6370560" y="391968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4" descr=""/>
          <p:cNvPicPr/>
          <p:nvPr/>
        </p:nvPicPr>
        <p:blipFill>
          <a:blip r:embed="rId3"/>
          <a:stretch/>
        </p:blipFill>
        <p:spPr>
          <a:xfrm>
            <a:off x="658800" y="3919680"/>
            <a:ext cx="4621320" cy="228600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6" descr=""/>
          <p:cNvPicPr/>
          <p:nvPr/>
        </p:nvPicPr>
        <p:blipFill>
          <a:blip r:embed="rId4"/>
          <a:stretch/>
        </p:blipFill>
        <p:spPr>
          <a:xfrm>
            <a:off x="6364440" y="1325520"/>
            <a:ext cx="458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文本框 5"/>
          <p:cNvSpPr/>
          <p:nvPr/>
        </p:nvSpPr>
        <p:spPr>
          <a:xfrm>
            <a:off x="1053360" y="806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黄昏时分的四方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图片 1" descr=""/>
          <p:cNvPicPr/>
          <p:nvPr/>
        </p:nvPicPr>
        <p:blipFill>
          <a:blip r:embed="rId1"/>
          <a:stretch/>
        </p:blipFill>
        <p:spPr>
          <a:xfrm>
            <a:off x="7275600" y="3676680"/>
            <a:ext cx="4064040" cy="228600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2" descr=""/>
          <p:cNvPicPr/>
          <p:nvPr/>
        </p:nvPicPr>
        <p:blipFill>
          <a:blip r:embed="rId2"/>
          <a:stretch/>
        </p:blipFill>
        <p:spPr>
          <a:xfrm>
            <a:off x="669960" y="3611520"/>
            <a:ext cx="4597200" cy="22860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6" descr=""/>
          <p:cNvPicPr/>
          <p:nvPr/>
        </p:nvPicPr>
        <p:blipFill>
          <a:blip r:embed="rId3"/>
          <a:stretch/>
        </p:blipFill>
        <p:spPr>
          <a:xfrm>
            <a:off x="3635280" y="1308240"/>
            <a:ext cx="4470480" cy="223020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7" descr=""/>
          <p:cNvPicPr/>
          <p:nvPr/>
        </p:nvPicPr>
        <p:blipFill>
          <a:blip r:embed="rId4"/>
          <a:stretch/>
        </p:blipFill>
        <p:spPr>
          <a:xfrm>
            <a:off x="5396040" y="4251240"/>
            <a:ext cx="14000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59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文本框 5"/>
          <p:cNvSpPr/>
          <p:nvPr/>
        </p:nvSpPr>
        <p:spPr>
          <a:xfrm>
            <a:off x="1692720" y="1157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黎明时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1" descr=""/>
          <p:cNvPicPr/>
          <p:nvPr/>
        </p:nvPicPr>
        <p:blipFill>
          <a:blip r:embed="rId1"/>
          <a:stretch/>
        </p:blipFill>
        <p:spPr>
          <a:xfrm>
            <a:off x="1146240" y="2158920"/>
            <a:ext cx="4583160" cy="228600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2" descr=""/>
          <p:cNvPicPr/>
          <p:nvPr/>
        </p:nvPicPr>
        <p:blipFill>
          <a:blip r:embed="rId2"/>
          <a:stretch/>
        </p:blipFill>
        <p:spPr>
          <a:xfrm>
            <a:off x="6219720" y="2158920"/>
            <a:ext cx="54342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7" descr=""/>
          <p:cNvPicPr/>
          <p:nvPr/>
        </p:nvPicPr>
        <p:blipFill>
          <a:blip r:embed="rId3"/>
          <a:stretch/>
        </p:blipFill>
        <p:spPr>
          <a:xfrm>
            <a:off x="5396040" y="4251240"/>
            <a:ext cx="14000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4"/>
          <p:cNvSpPr/>
          <p:nvPr/>
        </p:nvSpPr>
        <p:spPr>
          <a:xfrm>
            <a:off x="4987800" y="954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自读品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1142280" y="1382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Calibri"/>
              </a:rPr>
              <a:t>品析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3"/>
          <p:cNvSpPr/>
          <p:nvPr/>
        </p:nvSpPr>
        <p:spPr>
          <a:xfrm>
            <a:off x="1703520" y="2048040"/>
            <a:ext cx="82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读完全文后，就作者的写作手法，语言特点等，说说自己的收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2"/>
          <p:cNvSpPr/>
          <p:nvPr/>
        </p:nvSpPr>
        <p:spPr>
          <a:xfrm>
            <a:off x="1830240" y="3214800"/>
            <a:ext cx="74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篇课文作者从一个水滴的角度，拟人化的口吻介绍了玉龙雪山下丽江古城的前世今生。视角独特，感情充沛，既贴切于一滴水的演化和经历，也似一位感情细腻的游人，饱含对丽江山山水水的热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4"/>
          <p:cNvSpPr/>
          <p:nvPr/>
        </p:nvSpPr>
        <p:spPr>
          <a:xfrm>
            <a:off x="5046480" y="826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积累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3"/>
          <p:cNvSpPr/>
          <p:nvPr/>
        </p:nvSpPr>
        <p:spPr>
          <a:xfrm>
            <a:off x="938160" y="1619280"/>
            <a:ext cx="103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精读课文，找出你喜欢的句子，简要分析并摘抄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"/>
          <p:cNvSpPr/>
          <p:nvPr/>
        </p:nvSpPr>
        <p:spPr>
          <a:xfrm>
            <a:off x="1292400" y="2260440"/>
            <a:ext cx="87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的，我又化成了一滴水，和瀑布里另外的水大声喧哗着扑向山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图片 5" descr=""/>
          <p:cNvPicPr/>
          <p:nvPr/>
        </p:nvPicPr>
        <p:blipFill>
          <a:blip r:embed="rId1"/>
          <a:stretch/>
        </p:blipFill>
        <p:spPr>
          <a:xfrm>
            <a:off x="6669000" y="3292560"/>
            <a:ext cx="4583160" cy="228600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7"/>
          <p:cNvSpPr/>
          <p:nvPr/>
        </p:nvSpPr>
        <p:spPr>
          <a:xfrm>
            <a:off x="1114560" y="3171960"/>
            <a:ext cx="47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宋体"/>
              </a:rPr>
              <a:t>这句话除了整句用拟人手法充分表现出了作者的感情外，句中的一个</a:t>
            </a:r>
            <a:r>
              <a:rPr b="1" lang="en-US" sz="2000" spc="-1" strike="noStrike">
                <a:solidFill>
                  <a:srgbClr val="7030a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7030a0"/>
                </a:solidFill>
                <a:latin typeface="宋体"/>
              </a:rPr>
              <a:t>扑</a:t>
            </a:r>
            <a:r>
              <a:rPr b="1" lang="en-US" sz="2000" spc="-1" strike="noStrike">
                <a:solidFill>
                  <a:srgbClr val="7030a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7030a0"/>
                </a:solidFill>
                <a:latin typeface="宋体"/>
              </a:rPr>
              <a:t>字更是用的恰到好处：一方面照应水流自高而下的急势，另一方面更突出了</a:t>
            </a:r>
            <a:r>
              <a:rPr b="1" lang="en-US" sz="2000" spc="-1" strike="noStrike">
                <a:solidFill>
                  <a:srgbClr val="7030a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7030a0"/>
                </a:solidFill>
                <a:latin typeface="宋体"/>
              </a:rPr>
              <a:t>我</a:t>
            </a:r>
            <a:r>
              <a:rPr b="1" lang="en-US" sz="2000" spc="-1" strike="noStrike">
                <a:solidFill>
                  <a:srgbClr val="7030a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7030a0"/>
                </a:solidFill>
                <a:latin typeface="宋体"/>
              </a:rPr>
              <a:t>想要去看</a:t>
            </a:r>
            <a:r>
              <a:rPr b="1" lang="en-US" sz="2000" spc="-1" strike="noStrike">
                <a:solidFill>
                  <a:srgbClr val="7030a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7030a0"/>
                </a:solidFill>
                <a:latin typeface="宋体"/>
              </a:rPr>
              <a:t>四方街</a:t>
            </a:r>
            <a:r>
              <a:rPr b="1" lang="en-US" sz="2000" spc="-1" strike="noStrike">
                <a:solidFill>
                  <a:srgbClr val="7030a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7030a0"/>
                </a:solidFill>
                <a:latin typeface="宋体"/>
              </a:rPr>
              <a:t>的急追心情。生动传神，意蕴深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3"/>
          <p:cNvSpPr/>
          <p:nvPr/>
        </p:nvSpPr>
        <p:spPr>
          <a:xfrm>
            <a:off x="749160" y="1174680"/>
            <a:ext cx="103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仿写一段话，用拟人的手法写一个你心仪的小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4" descr=""/>
          <p:cNvPicPr/>
          <p:nvPr/>
        </p:nvPicPr>
        <p:blipFill>
          <a:blip r:embed="rId1"/>
          <a:stretch/>
        </p:blipFill>
        <p:spPr>
          <a:xfrm>
            <a:off x="569880" y="1571760"/>
            <a:ext cx="4062600" cy="228600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5" descr=""/>
          <p:cNvPicPr/>
          <p:nvPr/>
        </p:nvPicPr>
        <p:blipFill>
          <a:blip r:embed="rId2"/>
          <a:stretch/>
        </p:blipFill>
        <p:spPr>
          <a:xfrm>
            <a:off x="6176880" y="4025880"/>
            <a:ext cx="5410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文本框 4" descr=""/>
          <p:cNvPicPr/>
          <p:nvPr/>
        </p:nvPicPr>
        <p:blipFill>
          <a:blip r:embed="rId1"/>
          <a:stretch/>
        </p:blipFill>
        <p:spPr>
          <a:xfrm>
            <a:off x="1335240" y="4346640"/>
            <a:ext cx="4395600" cy="59040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5" descr=""/>
          <p:cNvPicPr/>
          <p:nvPr/>
        </p:nvPicPr>
        <p:blipFill>
          <a:blip r:embed="rId2"/>
          <a:stretch/>
        </p:blipFill>
        <p:spPr>
          <a:xfrm>
            <a:off x="1158840" y="917640"/>
            <a:ext cx="38084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6" descr=""/>
          <p:cNvPicPr/>
          <p:nvPr/>
        </p:nvPicPr>
        <p:blipFill>
          <a:blip r:embed="rId3"/>
          <a:stretch/>
        </p:blipFill>
        <p:spPr>
          <a:xfrm>
            <a:off x="5869080" y="917640"/>
            <a:ext cx="45846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7" descr=""/>
          <p:cNvPicPr/>
          <p:nvPr/>
        </p:nvPicPr>
        <p:blipFill>
          <a:blip r:embed="rId4"/>
          <a:stretch/>
        </p:blipFill>
        <p:spPr>
          <a:xfrm>
            <a:off x="5722920" y="3643200"/>
            <a:ext cx="48769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1"/>
          <p:cNvSpPr/>
          <p:nvPr/>
        </p:nvSpPr>
        <p:spPr>
          <a:xfrm>
            <a:off x="4154400" y="2349360"/>
            <a:ext cx="21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0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一滴水经过丽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extBox 2" descr=""/>
          <p:cNvPicPr/>
          <p:nvPr/>
        </p:nvPicPr>
        <p:blipFill>
          <a:blip r:embed="rId1"/>
          <a:stretch/>
        </p:blipFill>
        <p:spPr>
          <a:xfrm>
            <a:off x="1536840" y="2206800"/>
            <a:ext cx="9770760" cy="2047680"/>
          </a:xfrm>
          <a:prstGeom prst="rect">
            <a:avLst/>
          </a:prstGeom>
          <a:ln w="0">
            <a:noFill/>
          </a:ln>
        </p:spPr>
      </p:pic>
      <p:sp>
        <p:nvSpPr>
          <p:cNvPr id="328" name="矩形 6"/>
          <p:cNvSpPr/>
          <p:nvPr/>
        </p:nvSpPr>
        <p:spPr>
          <a:xfrm>
            <a:off x="4652280" y="1104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宋体"/>
              </a:rPr>
              <a:t>自读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9"/>
          <p:cNvSpPr/>
          <p:nvPr/>
        </p:nvSpPr>
        <p:spPr>
          <a:xfrm>
            <a:off x="4363200" y="777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宋体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"/>
          <p:cNvSpPr/>
          <p:nvPr/>
        </p:nvSpPr>
        <p:spPr>
          <a:xfrm>
            <a:off x="555480" y="132084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来，男，藏族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生于四川省马尔康县，当代著名作家，茅盾文学奖史上最年轻获奖者，四川省作协主席，兼任中国作协第八届全国委员会主席团委员。 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《尘埃落定》写出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出版期间，阿来由阿坝州一家杂志转辗到四川成都《科幻世界》由编辑到总编辑社长，《科幻世界》在阿来手里由一本杂志变为五六种，成为世界上发行量最大的科幻类杂志。数百万读者期待读到阿来新作。获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诺贝尔文学奖提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4" descr=""/>
          <p:cNvPicPr/>
          <p:nvPr/>
        </p:nvPicPr>
        <p:blipFill>
          <a:blip r:embed="rId1"/>
          <a:stretch/>
        </p:blipFill>
        <p:spPr>
          <a:xfrm>
            <a:off x="6929280" y="1417680"/>
            <a:ext cx="4375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3"/>
          <p:cNvSpPr/>
          <p:nvPr/>
        </p:nvSpPr>
        <p:spPr>
          <a:xfrm>
            <a:off x="1604880" y="2130480"/>
            <a:ext cx="938556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轻盈 （    ）   喧哗（     ）    驿道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矗立（    ）   犹豫（    ）   翡翠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眺望（     ）    擦拭（    ）   硕大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斑斓（    ）    目眩（     ）砚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"/>
          <p:cNvSpPr/>
          <p:nvPr/>
        </p:nvSpPr>
        <p:spPr>
          <a:xfrm>
            <a:off x="3989520" y="649440"/>
            <a:ext cx="4106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预习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6"/>
          <p:cNvSpPr/>
          <p:nvPr/>
        </p:nvSpPr>
        <p:spPr>
          <a:xfrm>
            <a:off x="3000960" y="2130480"/>
            <a:ext cx="840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华文楷体"/>
              </a:rPr>
              <a:t>yí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"/>
          <p:cNvSpPr/>
          <p:nvPr/>
        </p:nvSpPr>
        <p:spPr>
          <a:xfrm>
            <a:off x="6004800" y="4140360"/>
            <a:ext cx="9410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x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8"/>
          <p:cNvSpPr/>
          <p:nvPr/>
        </p:nvSpPr>
        <p:spPr>
          <a:xfrm>
            <a:off x="9702720" y="2066760"/>
            <a:ext cx="4474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9"/>
          <p:cNvSpPr/>
          <p:nvPr/>
        </p:nvSpPr>
        <p:spPr>
          <a:xfrm>
            <a:off x="6194520" y="1994040"/>
            <a:ext cx="1062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x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0"/>
          <p:cNvSpPr/>
          <p:nvPr/>
        </p:nvSpPr>
        <p:spPr>
          <a:xfrm>
            <a:off x="2836800" y="2738520"/>
            <a:ext cx="736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c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1"/>
          <p:cNvSpPr/>
          <p:nvPr/>
        </p:nvSpPr>
        <p:spPr>
          <a:xfrm>
            <a:off x="9091080" y="2852640"/>
            <a:ext cx="5709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f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12"/>
          <p:cNvSpPr/>
          <p:nvPr/>
        </p:nvSpPr>
        <p:spPr>
          <a:xfrm>
            <a:off x="6018840" y="2852640"/>
            <a:ext cx="633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yù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3"/>
          <p:cNvSpPr/>
          <p:nvPr/>
        </p:nvSpPr>
        <p:spPr>
          <a:xfrm>
            <a:off x="6504480" y="3524400"/>
            <a:ext cx="624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4"/>
          <p:cNvSpPr/>
          <p:nvPr/>
        </p:nvSpPr>
        <p:spPr>
          <a:xfrm>
            <a:off x="2870280" y="3524400"/>
            <a:ext cx="1266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tià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5"/>
          <p:cNvSpPr/>
          <p:nvPr/>
        </p:nvSpPr>
        <p:spPr>
          <a:xfrm>
            <a:off x="9462240" y="3524400"/>
            <a:ext cx="919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sh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6"/>
          <p:cNvSpPr/>
          <p:nvPr/>
        </p:nvSpPr>
        <p:spPr>
          <a:xfrm>
            <a:off x="2876400" y="4214880"/>
            <a:ext cx="657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l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7"/>
          <p:cNvSpPr/>
          <p:nvPr/>
        </p:nvSpPr>
        <p:spPr>
          <a:xfrm>
            <a:off x="8975160" y="4214880"/>
            <a:ext cx="73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宋体"/>
                <a:ea typeface="Times New Roman"/>
              </a:rPr>
              <a:t>y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8"/>
          <p:cNvSpPr/>
          <p:nvPr/>
        </p:nvSpPr>
        <p:spPr>
          <a:xfrm>
            <a:off x="1254240" y="1454040"/>
            <a:ext cx="410688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Arial"/>
              </a:rPr>
              <a:t>读准下列字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3"/>
          <p:cNvSpPr/>
          <p:nvPr/>
        </p:nvSpPr>
        <p:spPr>
          <a:xfrm>
            <a:off x="1147680" y="798480"/>
            <a:ext cx="8788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读课文，理清一滴水的行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内容占位符 11" descr=""/>
          <p:cNvPicPr/>
          <p:nvPr/>
        </p:nvPicPr>
        <p:blipFill>
          <a:blip r:embed="rId1"/>
          <a:stretch/>
        </p:blipFill>
        <p:spPr>
          <a:xfrm>
            <a:off x="1374840" y="1717560"/>
            <a:ext cx="4387680" cy="2117880"/>
          </a:xfrm>
          <a:prstGeom prst="rect">
            <a:avLst/>
          </a:prstGeom>
          <a:ln w="0">
            <a:noFill/>
          </a:ln>
        </p:spPr>
      </p:pic>
      <p:pic>
        <p:nvPicPr>
          <p:cNvPr id="349" name="文本框 13" descr=""/>
          <p:cNvPicPr/>
          <p:nvPr/>
        </p:nvPicPr>
        <p:blipFill>
          <a:blip r:embed="rId2"/>
          <a:stretch/>
        </p:blipFill>
        <p:spPr>
          <a:xfrm>
            <a:off x="7711920" y="4187880"/>
            <a:ext cx="919440" cy="197496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4" descr=""/>
          <p:cNvPicPr/>
          <p:nvPr/>
        </p:nvPicPr>
        <p:blipFill>
          <a:blip r:embed="rId3"/>
          <a:stretch/>
        </p:blipFill>
        <p:spPr>
          <a:xfrm>
            <a:off x="5815080" y="1717560"/>
            <a:ext cx="4389480" cy="2117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5" descr=""/>
          <p:cNvPicPr/>
          <p:nvPr/>
        </p:nvPicPr>
        <p:blipFill>
          <a:blip r:embed="rId4"/>
          <a:stretch/>
        </p:blipFill>
        <p:spPr>
          <a:xfrm>
            <a:off x="2790720" y="3983040"/>
            <a:ext cx="443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" descr=""/>
          <p:cNvPicPr/>
          <p:nvPr/>
        </p:nvPicPr>
        <p:blipFill>
          <a:blip r:embed="rId1"/>
          <a:stretch/>
        </p:blipFill>
        <p:spPr>
          <a:xfrm>
            <a:off x="276120" y="693720"/>
            <a:ext cx="626112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2" descr=""/>
          <p:cNvPicPr/>
          <p:nvPr/>
        </p:nvPicPr>
        <p:blipFill>
          <a:blip r:embed="rId2"/>
          <a:stretch/>
        </p:blipFill>
        <p:spPr>
          <a:xfrm>
            <a:off x="7451640" y="693720"/>
            <a:ext cx="4367160" cy="22860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3" descr=""/>
          <p:cNvPicPr/>
          <p:nvPr/>
        </p:nvPicPr>
        <p:blipFill>
          <a:blip r:embed="rId3"/>
          <a:stretch/>
        </p:blipFill>
        <p:spPr>
          <a:xfrm>
            <a:off x="276120" y="3878280"/>
            <a:ext cx="5143680" cy="22860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4" descr=""/>
          <p:cNvPicPr/>
          <p:nvPr/>
        </p:nvPicPr>
        <p:blipFill>
          <a:blip r:embed="rId4"/>
          <a:stretch/>
        </p:blipFill>
        <p:spPr>
          <a:xfrm>
            <a:off x="6537240" y="3772080"/>
            <a:ext cx="5281560" cy="2286000"/>
          </a:xfrm>
          <a:prstGeom prst="rect">
            <a:avLst/>
          </a:prstGeom>
          <a:ln w="0">
            <a:noFill/>
          </a:ln>
        </p:spPr>
      </p:pic>
      <p:sp>
        <p:nvSpPr>
          <p:cNvPr id="356" name="文本框 5"/>
          <p:cNvSpPr/>
          <p:nvPr/>
        </p:nvSpPr>
        <p:spPr>
          <a:xfrm>
            <a:off x="4539240" y="326700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到了象山、笔架山，看到了满山的杜鹃花、纳西族村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4" descr=""/>
          <p:cNvPicPr/>
          <p:nvPr/>
        </p:nvPicPr>
        <p:blipFill>
          <a:blip r:embed="rId1"/>
          <a:stretch/>
        </p:blipFill>
        <p:spPr>
          <a:xfrm>
            <a:off x="4978440" y="3879720"/>
            <a:ext cx="1398600" cy="1508400"/>
          </a:xfrm>
          <a:prstGeom prst="rect">
            <a:avLst/>
          </a:prstGeom>
          <a:ln w="0">
            <a:noFill/>
          </a:ln>
        </p:spPr>
      </p:pic>
      <p:sp>
        <p:nvSpPr>
          <p:cNvPr id="358" name="文本框 5"/>
          <p:cNvSpPr/>
          <p:nvPr/>
        </p:nvSpPr>
        <p:spPr>
          <a:xfrm>
            <a:off x="1278000" y="966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沉睡好几百年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1" descr=""/>
          <p:cNvPicPr/>
          <p:nvPr/>
        </p:nvPicPr>
        <p:blipFill>
          <a:blip r:embed="rId2"/>
          <a:stretch/>
        </p:blipFill>
        <p:spPr>
          <a:xfrm>
            <a:off x="822240" y="1819440"/>
            <a:ext cx="3783240" cy="22860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" descr=""/>
          <p:cNvPicPr/>
          <p:nvPr/>
        </p:nvPicPr>
        <p:blipFill>
          <a:blip r:embed="rId3"/>
          <a:stretch/>
        </p:blipFill>
        <p:spPr>
          <a:xfrm>
            <a:off x="6523200" y="1819440"/>
            <a:ext cx="4887720" cy="2286000"/>
          </a:xfrm>
          <a:prstGeom prst="rect">
            <a:avLst/>
          </a:prstGeom>
          <a:ln w="0">
            <a:noFill/>
          </a:ln>
        </p:spPr>
      </p:pic>
      <p:sp>
        <p:nvSpPr>
          <p:cNvPr id="361" name="文本框 3"/>
          <p:cNvSpPr/>
          <p:nvPr/>
        </p:nvSpPr>
        <p:spPr>
          <a:xfrm>
            <a:off x="4918320" y="5199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丽江黑龙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19T09:45:56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